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874-95C7-4886-907B-BA531998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5FA-D864-4B07-99AB-7C9D948D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EBA-EBAC-42F9-812D-0AE13279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2FC-7D23-481F-8137-25258876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107-DB48-4E6A-929D-062224F0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6D2-EDDB-4ACE-BD12-51ACCF17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EA4-6542-43E8-A931-ED869117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066-B751-49DC-B8B6-F3361270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6D9-B4B0-4BAA-8482-B27C062F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39D-C804-4517-B172-993DE449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FA4-1AF3-403D-B530-5080BB2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F21-6A59-4640-81DF-191DEBEC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A174-F184-47B9-8A45-A90173116FD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 este efectul de ser</a:t>
            </a:r>
            <a:r>
              <a:rPr b="1" lang="ro-RO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re realizată de echip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“</a:t>
            </a:r>
            <a:r>
              <a:rPr b="1" lang="en-US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scoperitorilor ” </a:t>
            </a: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ă di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luca, Adriana, George </a:t>
            </a: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 Radu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a a XI-a  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333360"/>
            <a:ext cx="770580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e unde vine aceasta denumire « efectul de s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 » 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d un g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inar dor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 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cultive o plan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la o temperatura superioa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celei de afa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, el o pun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nt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s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 Peretele translucid al serei permit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azelor 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calzeas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solul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 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r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a caldura emi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e acesta. De unde o cr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re a temperaturii din interiorul serei raportat la temperatura ambian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oarele emite pe pamant caldura si lumina. Aceasta emisie acop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intreaga ga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e raze cuprins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tre ultraviolete, infraro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 lumi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vizibil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O treime din aceste raze este reflecta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e atmosf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, iar o parte din ultraviolete este absorbi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e stratul d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on. Cele ce p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rund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 atmosfera lumineaza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zesc P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tu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tul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zit emite la 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dul sau radi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i 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re sp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ţi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. Emisia P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tului se rezu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doar la gama de infraro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r, 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va din gazele ce se g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esc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 atmosf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au capacitatea s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absoarb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acest tip de infraro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 de a produce 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du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 Aces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du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spor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 temperatura atmosferei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z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 din nou P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tul. Aceste gaze poarta numele de « gaze cu efect de se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 ». Pentru planeta noast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, ele au rolul pe car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 are peretele translucid pentru solul unei s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era-gif"/>
          <p:cNvPicPr/>
          <p:nvPr/>
        </p:nvPicPr>
        <p:blipFill>
          <a:blip r:embed="rId1"/>
          <a:stretch/>
        </p:blipFill>
        <p:spPr>
          <a:xfrm>
            <a:off x="428760" y="428760"/>
            <a:ext cx="7705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39640" y="620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efectul-de-sera"/>
          <p:cNvPicPr/>
          <p:nvPr/>
        </p:nvPicPr>
        <p:blipFill>
          <a:blip r:embed="rId1"/>
          <a:stretch/>
        </p:blipFill>
        <p:spPr>
          <a:xfrm>
            <a:off x="0" y="0"/>
            <a:ext cx="4505400" cy="3343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8388360" y="306216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50920" y="350028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zirea global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este fenomenul de cr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re a temperaturilor medi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registrate ale atmosfere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 imediata apropiere a solului, precum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 a oceanelor. 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nomenul de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zire global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ceput sa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grijoreze dup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nii '60,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 urma dezvolt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ii industriale masive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 a cr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rii concentr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ei gazelor cu efect de se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are sunt considerate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 mare masu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responsabile de acest fenome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716360" y="333360"/>
            <a:ext cx="30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fectul de seră este procesul prin care atmosfera captează o parte din energia solară, încălzind Pământul şi modificând cli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428760" y="357120"/>
            <a:ext cx="85010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arele emite un spectru complet de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electromagnetice printre car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el numit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opti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ltraviolet UV, vizibil, Infraro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IR). 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ro-RO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tul reflect</a:t>
            </a:r>
            <a:r>
              <a:rPr b="1" lang="ro-RO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0% din radia</a:t>
            </a:r>
            <a:r>
              <a:rPr b="1" lang="ro-RO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a primit</a:t>
            </a:r>
            <a:r>
              <a:rPr b="1" lang="ro-RO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de la soare, restul de 70% este absorbit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rin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alzirea suprafetelor (p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, oceane, veget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) acestea emit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IR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tmosfe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celasi timp P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ul, fiind un corp cald,  emite 70%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termi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. Astfel ciclul energetic est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s.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imagine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rmătoar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rezint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ortamentul gazelor din atmosfe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sola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termi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ului. Efectele prezentate sunt calitativ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u cantitativ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le molecule de gaz din atmosfe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azele de se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u proprietatea de-a absorbi radia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termi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is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P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-a s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. Astfel s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este atmosfera. Acest mod d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e se numeste efect de se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l asigur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dezvolt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i vie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e P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prin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ea atmosferei terestre.Dac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ar exista acest fenomen de </a:t>
            </a:r>
            <a:r>
              <a:rPr b="1" lang="ro-RO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alzire a atmosferei, temperatura medie a planetei ar fi in jurul a -10° 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5429160" y="0"/>
            <a:ext cx="335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rit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sorb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rad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i termice de 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 moleculele de CO2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aporii de ap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roduce o cr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 a temperaturii medii a atmosferei la aprox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iv  +15 ° C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ceasta face posibil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ţ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treibhauseffekt"/>
          <p:cNvPicPr/>
          <p:nvPr/>
        </p:nvPicPr>
        <p:blipFill>
          <a:blip r:embed="rId1"/>
          <a:stretch/>
        </p:blipFill>
        <p:spPr>
          <a:xfrm>
            <a:off x="571680" y="0"/>
            <a:ext cx="4506840" cy="40957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642960" y="42861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st efect est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plificat se produc dezechilib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jore energetice care duc la dezastr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fecteaz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iar v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 P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te precum Venus , care au o atmosfe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og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2, dezvolt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ecte de se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temperaturi foarte mari, de sute de grade Celsius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539640" y="189000"/>
            <a:ext cx="712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1428840" y="214200"/>
          <a:ext cx="5707080" cy="48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14200"/>
                    <a:ext cx="5707080" cy="48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7"/>
          <p:cNvSpPr/>
          <p:nvPr/>
        </p:nvSpPr>
        <p:spPr>
          <a:xfrm>
            <a:off x="611280" y="522936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50920" y="5300640"/>
            <a:ext cx="889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astă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bserv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ul în care are loc absorb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rad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i infraro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de 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ele gazelor de se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e ulterior emit rad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infraro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, în toate dire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, producând astfel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rea aceste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713880"/>
            <a:ext cx="825804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ele benefice ale </a:t>
            </a:r>
            <a:r>
              <a:rPr b="1" lang="ro-RO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1" lang="ro-RO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ii global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te tot se discuta despre p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ile negative ale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ii globale.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vantaje.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adele de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e global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anterioar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reprezentat pentru oameni epoci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ad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bunden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nd civiliza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au f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 salturi uria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schimb, epocile glaciare au reprezentat timpuri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are dezvoltarea uman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-a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etinit sau chiar a regresat. Geologul australian Plimer spune c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irea global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e un fenomen pe care oamenii ar trebui s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 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r</a:t>
            </a:r>
            <a:r>
              <a:rPr b="0" lang="ro-RO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ze ca un prevestitor al vremurilor bune care vor ven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F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omune.ro/?/tema_consultanta/icon8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wikipedia.or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meteo.ro/articol/33/Ce-este-incalzirea-global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greenhouse.gov.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greenblog.descopera.ro/tag/incalzire-globala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www.comune.ro/files/efect-de-sera-w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http://www.ecomagazin.ro/cauzele-incalzirii-globale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http://www.spune-ce-vrei.go.ro/date/planeta-pamant/atmosfera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infomediu.eu/incalzirea-globala-un-adevar-incomod-sau-o-minciuna-convenabila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http://www.cceg.ro/publicatii/pliante/pliant%20clima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3:04:21Z</dcterms:created>
  <dc:creator>HE</dc:creator>
  <dc:description/>
  <dc:language>en-US</dc:language>
  <cp:lastModifiedBy>HE</cp:lastModifiedBy>
  <dcterms:modified xsi:type="dcterms:W3CDTF">2010-12-19T15:43:46Z</dcterms:modified>
  <cp:revision>21</cp:revision>
  <dc:subject/>
  <dc:title>Ce este efectul de seră?</dc:title>
</cp:coreProperties>
</file>